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6251-D18B-47B2-A03A-386C84F2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7CF-D020-4645-9692-EFAB97AF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32BAC-01D5-4909-8DDE-7468E096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3A984-95F9-419D-9A7C-3DDB7432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C8578-1A25-4DF1-AE4A-9F6412FC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2472B-0901-4DB7-86DE-32904312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18842-2292-4E03-8499-9EE16BFB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9F476-824E-4CED-BF7F-A734C98D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B553A-A4F8-489B-957F-2962DB61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66871-AD8E-4250-A8CC-92ED7D44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31F66-8AEA-4A04-8FF4-AC211B8C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F0767-32B7-4302-AA92-34DD705E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DE5-BD64-43EC-9513-F167C6F5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BAADF-3671-4282-AA76-AB1FA80D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7883A-4561-4B24-B853-57451446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18672-6250-402C-908E-CF954D3C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5D5E5-E21E-4E67-9369-CAB98062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B45E5-9765-463F-B25D-83B816CE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37DA3-3F83-44DA-8955-BAA95F94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502FA-6CC1-4439-ADA6-9ED59C71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EDAFD-0619-4AEF-8409-714506F9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0D740-CF4A-4951-A0F9-6903C0B9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8EC4E-794E-4F71-A163-A9AC95DF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B90-033B-434A-9C14-F37565E1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1F584-EFFB-47CA-8174-089BE930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E2DF8-8D56-4FE7-8C56-2D104348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06F22-68D1-4518-A779-9BDB3FE4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7F2E7-104A-4493-AAE3-59D54D69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02218-0FB6-42BE-ADCF-E067DCC6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5A847-8FFD-4C09-8AA0-0B99093F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0620A-79DC-4435-92A4-E31E7B0F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481BE-DFB8-46A8-8056-757AC5A1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E0C52-4185-4E0D-BA9A-12B010BA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34B3F-A86D-49B7-91F1-9EA70E34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7CAF-F3FF-4BA6-B364-2C3AC41B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12095-1F0F-488A-B1DE-43D92B98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B2320-1E85-4820-85BA-4A025E6B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8563A-650D-4944-BF57-06445385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2ABC0-DCEA-4DF1-BFC6-D5248235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695E2-DBF8-4D5C-A50F-30DA3443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C9401-1900-47D7-BB0A-4B256AAF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E1AB5-4D1D-4CA6-B464-24833DCB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01731-896F-4467-A5CE-BA43B43F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46FCA-358C-43F2-A169-B592B804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F06D9-7A28-4599-8D6C-27BC4185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7858-EBA7-4105-9DE1-9764C3C3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88207-A48E-435C-82A6-5F4CE447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6926A-D507-40B1-A9F5-D0678230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44BE9-E640-46FD-927E-F66106BE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E3F69-7E12-4E89-8B86-391D0B40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57E62-27AD-491F-8F8C-A3386540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BB7A6D-2BCA-4CED-AC73-BEEF35F8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681431-2696-4CB8-87DC-99401F87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8BF0A8-32B6-425C-B8B5-89B3D127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C3D1E5-261B-4DBF-AE85-8FA16CAD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CE661A-6F42-463E-86B1-6509D311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2919-2E33-4D7F-8034-967C8DCB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A14E30-49DE-4413-9F15-C056C1A2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A28391-7AC3-46CE-A7FB-46E6D7B7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0164F9-F871-4DCE-A70D-0210D2A7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2B81ED-25AB-48CD-A748-1CCCEB6A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76F990-51EA-4570-972E-D6F61894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5751AF-49E1-47D9-B837-33D217BB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3741C7-C6EB-411B-AA07-A225ABE6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A2D70F-09A9-4AC3-900C-69AC509D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56C4E-A710-4BEA-B201-01B14A1D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D0D0D2-26A0-4DBC-A8E5-77D88029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FD0B-DA6F-402F-8767-81517575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733D9-EE72-4EF1-9FB2-515B3C8D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1EFE64-7FF8-4FD3-A4FF-4BFC66E6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77EB0E-37B5-4720-832E-F81BCCC9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C02F4-F325-4277-A4A4-72F256D6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83CD74-A5AF-4A8F-AC2C-86B321DA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A0C976-7346-4381-B7FC-A41BBB68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EE1F74-139B-4D2A-BD5D-C081D0F4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2343A0-ADCA-4EF5-9763-7B01A509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605A8-4109-4708-AC21-69ED7FCF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F31D84-D0C2-44FE-B10B-8A64B956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9CC2-904E-455D-9739-0D027AF7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253EA3-6DC1-45B6-B46D-62EEF7CC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D5084E-9FCD-4E60-9574-27EDE503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7020E6-460A-45F8-BEB2-F48F730B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78B072-552B-4BBD-A6A7-F50B2825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1DBBD9-11CF-4657-82B2-CC94C41B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807E51-8F8C-4E9A-97F3-0A7C801A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AFE48E-87CB-4BA7-8F78-8A6B5D38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9A9853-AEF3-40AC-85E6-9BBEF8B6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51ABCA-B241-4B42-90F1-0C31F463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43A3E1-BA62-4D92-9080-21033D15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7D2A-0606-4B3D-B2C7-459FBC47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943590-86A4-4802-9E3F-035C6273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68DF40-7A0D-476F-AB45-EEAC9B77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A9B9B1-120E-4F1B-BF3B-E7C09113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B089E5-7A39-428A-9E8C-E47CB5BC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D52A96-0EB5-4402-9292-90FAC7A0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5EE79F-CE7A-40D7-B6E8-7E1AB431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871290-3673-4F7F-B60C-24135CE8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D27C19-ECDE-48B9-AF23-FBE9CD3D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BB49B7-2C2D-4C8F-A861-50749523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4B63E4-719E-4352-A978-4E0C6089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53FC-B063-4E35-A227-FE14962E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7F44EB-D02D-402C-8B7A-F0BBA10B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DBCC5-3AC8-4489-9A43-04C323CF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EB685F-813A-45AC-A91C-54E2FBF2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387B39-25B0-4638-9F70-B751EE73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5B452C-94DB-483E-A28C-0712E14C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A7C5D3-35DB-41EA-9211-42DE7EB1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D8D585-8058-4CBF-A9DE-659F1670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972877-59FF-470E-8632-6ADA8040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24E8FF-F6D3-42AB-B0AB-87114479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FA92AC-A087-4915-A4FF-787BB008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581-95C8-4F1B-BD80-050CCCB9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D44E-A3FE-4060-9DD7-E972CD39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E92C56-65CF-489B-8E87-BC31A44E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C1B388-B7AA-45DF-B013-CC3C259D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E63696-690B-4D63-8EB0-4FD9B99B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1C029E-91EA-4245-9E5F-F5E7175A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5D8019-4C5B-441B-8FF6-4E8C5019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54BA04B-5CD3-4C3E-84F5-3C51D486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7A51E99-96EF-4993-A397-6678638F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33176FD-755C-4A61-AE68-04C6C135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7C7D7CE-F8DA-4B2C-BE7A-21972600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FC504F6-3352-47A5-A097-4BB4A740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387E-B73E-4C59-AB5A-602367F9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326F20A-8638-4BF3-9224-B0B6FBB3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F6F733F-49C8-42F1-AF9D-CBCEB846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6FC345A-82AE-4658-BADC-82D6294B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3552988-39AE-475E-B121-C0BCC257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49C3242-5BC2-4199-B1F1-28EF9E20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68872C3-6F82-4031-9B05-BDAC7C2F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6135F77-EE7C-43F0-BAA9-53EAD074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4BE9-1D3C-4D45-B9BC-4C765B7E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2CA1-E5BC-45E3-B8F8-2E0189A2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CD4A-30BA-451A-9A2B-049A28C3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25E3E-172E-4F92-AF0D-302247AE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D5892-1412-4457-80B0-D1E70909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1AD44-73C7-4F9F-8BC1-801DD74B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83868-BEC9-4BBB-895D-7FA7EF4D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A048C-242D-4F40-92B4-1E3E5017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0F8-FD26-4128-AD31-F690FDA2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78CE6-7E63-495A-A60A-69E830A1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7AC68-ADA6-44C4-BDD2-9E51F2D6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2B459-EDC6-4F5C-AA10-C904176E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A30B6-26AC-4B0F-801E-C5F6DB93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8BB2F-252D-49D8-BE8C-2EBFB2D8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8E7C6-5DD2-4D6E-8D28-8E05C515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AB419-E2FF-4AB7-B3E3-1A45D52F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773F9-1261-444E-9850-7A0DC682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0FE0D-C50C-419F-8CE5-43A0CBC6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01E76-0226-43E7-8D1E-5D433F1A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954F-B454-4D7D-AD51-48E31E42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1E49A-9187-4371-813B-3D94480A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A3BAC-488C-4276-B554-7DAED69E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6DE54-28A6-469C-A05F-360D0522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81099-AFC2-4CDC-A262-E5D842DD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CDCC5-8188-4ED0-87B8-317558F8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20145-34F2-4E49-AAFB-6ACD5902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DB238-15D7-471D-A2A5-F50796C1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EEB9E-DA23-406A-A596-B19913D7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E405A-2D17-44FC-9D2B-843C348E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6135E-5747-41E9-A7C9-CD0CEC47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B04-18EE-4BA5-B8C5-60479EE1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EFB84-5C9C-4200-A1F2-1C96283F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F494C-8AA2-4AE9-8532-E3B66E2A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6865D-E801-488E-B3D4-D3F68640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DE215-5B4D-4666-AE4C-80F7C2EB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84B95-252A-4E69-B3D0-C94D9C9E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3A0BF-55A4-41FF-8F89-39B70F41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8D3FA-41CE-4FC7-BB34-B739992C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E4686-9598-451F-B38B-08C1620C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6D08C-EC8C-419E-B495-659BC812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F9656-2CE5-43B6-9D06-7A4D6383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576B-E596-4EAD-AB33-1C162165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28A54-9FE0-455E-9E25-473C0A09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6E5E8-CA95-4D88-82B1-27F4E8A8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A0A9F-7E07-4106-B422-DDB9494D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5C812-2D93-4E70-9BA1-078003A4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107E2-A1AC-4421-B28C-85319D72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D31B7-D207-4861-BA43-2D92EB52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DC7BF-D288-4BCE-86DE-38C54C68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9F741-6E0C-4EB6-B70E-BCA33528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E174D-6478-4BA8-A6E0-B951FFF1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68DE3-83CC-4CFD-8FDC-80EBFEEC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1A2-1A8E-45B0-B8F4-F2C7C479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CA1D0-4D99-4D8A-9F26-7CA15D05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1760E-247C-45E3-BD49-55FAFB5C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E3308-EE69-49FF-AD45-82778C2F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B5A3F-C9DD-402C-9E49-25721D42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57AE6-955A-4952-AAD6-58A6AD17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E8304-A859-41D5-86F5-1551D6C5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2BA01-0AA8-49C4-ADC8-DA06EB5A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55A5A-8054-42ED-880A-0700116B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AC0C3-9474-4937-890E-3325E4E3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E45CE-F8EE-40EF-A71D-9DE1E3E2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296-FA2E-4A5F-AA6E-825DF2D9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053E0-CA6B-4050-8A9E-A45F6392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2CDBE-9E27-47B2-BD0B-86A4C76A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6919D-0A65-4876-B608-A78C9FD4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BFB6F-F5E6-4BB9-98AE-01D5EDC8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D2AF1-095D-47F2-8A84-972BB9F8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CA69C-6C4E-4196-AE36-4023AC1D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53C6F-9DE8-453A-8A21-FE14B574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30D92-AA30-47D5-ACE8-D23B561E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5B40D-C14B-4461-BA30-E674D37B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02A83-7649-41DB-98B7-264AE125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DDBF-6F79-4619-9094-BA5AA3DA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943FB-464E-4239-967D-BFD7B963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527AB-67DF-4617-992C-11702C8C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9748F-00E4-4507-A822-2548D832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B0DFD-5935-4C92-A4CA-DFE6585D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1B9FD-8523-4376-8C07-68D4C100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ADD25-E21C-45F6-BE86-3C82492D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B707F-C0AA-4A6D-A70F-B4BDBC27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B8AD1-13E1-4FF1-A520-3A4DDB61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B612E-A7F5-4C4A-AF1C-FF32D3B4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18C9B-3EA5-4920-AC67-0CCF7F95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8E4C-68AA-480D-8723-C1A4D5EFA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8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8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0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dt" idx="2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58D3-FBE8-4ADC-8C4E-23F0B129F5E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5116-7C93-4578-8419-6738361CF0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5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7" name="PlaceHolder 1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7B8C-2471-4F58-B6C7-C6AA995040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1E27-956B-44F2-922B-80E95DF12A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3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3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7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7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8BC3-E48E-404E-9335-684D30568B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67A6-6B33-4E0D-B8DB-52BB4BA3C6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034F-7391-4A95-9056-EA2FD60165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0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51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51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1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2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0787-0937-4C7B-B049-AE48BD3B43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56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57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7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8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8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549B-F3E8-44D4-8130-B3287B670D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 type="ftr" idx="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7452-258D-4125-87B9-89EEE8692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C0C3-FFDE-4837-8C1B-5B6044C876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9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0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1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4F91-C279-496B-B952-28A4A3F3E9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9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9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9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9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0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A439-EC84-454B-9B7A-22A9971408B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6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6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7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7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7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8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9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9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9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0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0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3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5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5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6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6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7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7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7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8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44E7-843B-4238-B24A-DD618B5D766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3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4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6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3880-717F-4E2C-8D8D-10A9DBE2F8B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1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2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4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B2E2-62C0-4CCD-A7D4-D7F35C62231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9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9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0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FC5F-78C7-4640-8C11-3D74A61624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 Mansi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  <a:ea typeface="Arial"/>
              </a:rPr>
              <a:t>ó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astellar"/>
              </a:rPr>
              <a:t>Por: Jessica Rodrigu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s un garaje. Es bonito y estupend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67840" cy="45147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End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advTm="5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"/>
              </a:rPr>
              <a:t>ó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 es estupenda y bonit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31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458200" cy="4800600"/>
          </a:xfrm>
          <a:prstGeom prst="rect">
            <a:avLst/>
          </a:prstGeom>
          <a:ln w="0">
            <a:noFill/>
          </a:ln>
        </p:spPr>
      </p:pic>
    </p:spTree>
  </p:cSld>
  <p:transition advTm="5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 una cocina. Es grande y bella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4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229600" cy="4647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s un comedor. Es lujoso y incre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Tahoma"/>
              </a:rPr>
              <a:t>í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le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7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50292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La sala es impresionante y bella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01080" cy="4976640"/>
          </a:xfrm>
          <a:prstGeom prst="rect">
            <a:avLst/>
          </a:prstGeom>
          <a:ln w="0">
            <a:noFill/>
          </a:ln>
        </p:spPr>
      </p:pic>
    </p:spTree>
  </p:cSld>
  <p:transition advTm="5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un ba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Arial"/>
              </a:rPr>
              <a:t>ñ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. Es nuevo y grand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10480" cy="466092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cuarto es mag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  <a:ea typeface="Arial"/>
              </a:rPr>
              <a:t>í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ico y lujos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6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67856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s un patio. Es estupendo y fabuloso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9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8381880" cy="49244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j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  <a:ea typeface="Arial"/>
              </a:rPr>
              <a:t>í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. Es grande y increible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2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153280" cy="46782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37:38Z</dcterms:created>
  <dc:creator>rodriguesjes</dc:creator>
  <dc:description/>
  <dc:language>en-US</dc:language>
  <cp:lastModifiedBy>rodriguesjes</cp:lastModifiedBy>
  <dcterms:modified xsi:type="dcterms:W3CDTF">2012-10-26T16:58:18Z</dcterms:modified>
  <cp:revision>7</cp:revision>
  <dc:subject/>
  <dc:title> La Mansión</dc:title>
</cp:coreProperties>
</file>